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F28-010F-419F-A0E9-8681BC0A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94C-DF00-4CED-B0CE-70A1E603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E4C-CAD4-4A42-9D7C-B6C908CB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B08-6B19-41FF-98DB-678ECA54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EFE-AFE6-4D8A-B8FB-53E19CD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BC8-C579-417A-A3B5-C7455F4D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C31-13AA-4E90-BA19-D5740F5B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94E-4F89-4B28-9BEB-5F812CF5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EA5-9E47-4B60-A076-469B13C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CFC-BC5A-432D-9DD0-D80692D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AB2-7FB0-47CA-82DA-5B93964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BF7-4119-4C99-989D-2283ED88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5776-6AFD-4339-A0E8-2F6E8A2B337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2 Čas žatvy už sa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as žatvy už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do práce sa d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yjde snopy zbier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ozrie úrod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áne, daj nám schopn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ilu prac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ieme blížnych s lás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k tebe pozý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minulosti tvoji š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lzách Slovo si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dával si im nád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budú úspech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nám daj pevnú vier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apáľ oheň v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ykročíme k die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ajvyšší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ie šíre sveta lán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lasy tvoje s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už pošli, Pane, ženc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erne slúžiť chc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obre vykonajú tú prác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im d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ako deti s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ch domov zavolá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59:27Z</dcterms:modified>
  <cp:revision>35</cp:revision>
  <dc:subject/>
  <dc:title>Je veľký náš Pán, on slávy je Kráľ Nech do všetkých strán  spev vrúcnych znie chvál.</dc:title>
</cp:coreProperties>
</file>